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explod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11F4-B571-473E-A130-BD611C84CE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HEA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of energy and measured in JO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move about more and take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oom if heated – this is why thing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d if h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lso why substances change fro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s         liquids         gas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HEA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m of energy and measured in JO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icles move about more and take up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room if heated – this is why things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and if he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also why substances change from: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ids         liquids         gase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he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sit www.worldofteaching.com for more free power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place in material where particles can move around inside the material, i.e. liquid o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t is carried by the particles themselves moving               Convec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cause an area with warm particles expands and becomes less dense than the cooler areas nearby. The warm area ris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er particles fall into the space left by the warm particles and convection current is set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kes place in material where particles can move around inside the material, i.e. liquid or g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heat is carried by the particles themselves moving               Convection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ur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 because an area with warm particles expands and becomes less dense than the cooler areas nearby. The warm area rises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oler particles fall into the space left by the warm particles and convection current is set u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Cur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liquids and gases expand and rise while the cooler liquid or gas f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Hot air 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oes a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en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And a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 Cur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t liquids and gases expand and rise while the cooler liquid or gas fa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Hot air ri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Goes acro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Then dow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And acro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co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can cause large convection currents  -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daytime the land warms up more than the sea.  The warm air rises over the land and cool air falls over the sea. So we feel a sea bree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ing convection currents can be uses by glider pilots to keep their planes in the air and by birds to stay alo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 con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un can cause large convection currents  - WIN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ring daytime the land warms up more than the sea.  The warm air rises over the land and cool air falls over the sea. So we feel a sea breez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sing convection currents can be uses by glider pilots to keep their planes in the air and by birds to stay alof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 of heat directly form the source to the object by a wave, travelling as r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radiation is also known as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bjects that are hotter than their surroundings give out heat as infra-red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transfer by radiation does not need particles to occur and is the only way energy can be transferred across empty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-RED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fer of heat directly form the source to the object by a wave, travelling as ray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radiation is also known as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objects that are hotter than their surroundings give out heat as infra-red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transfer by radiation does not need particles to occur and is the only way energy can be transferred across empty sp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RA-RED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ter objects emit (give out)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rfaces emit heat at different sp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ull black surfaces loses energy more quickly – it is a good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ight shiny or white surface is a poor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athon runners need to keep warm at the end of races, covering in shiny blankets reduces radiation and therefore heat l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tter objects emit (give out)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surfaces emit heat at different spee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dull black surfaces loses energy more quickly – it is a good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bright shiny or white surface is a poor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rathon runners need to keep warm at the end of races, covering in shiny blankets reduces radiation and therefore heat los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tters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 shiny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or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ers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ight shiny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or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od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er objects absorb (take in)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ances absorb heat at different sp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ll, black surfaces absorb heat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, shiny surfaces absorb heat slow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ot countries, people wear bright white clothes and paint their houses white to reduce absorption of energy from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rol storage tanks sprayed silver to reflect sun’s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oler objects absorb (take in)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stances absorb heat at different spee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ll, black surfaces absorb heat quick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ight, shiny surfaces absorb heat slow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hot countries, people wear bright white clothes and paint their houses white to reduce absorption of energy from the su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trol storage tanks sprayed silver to reflect sun’s ra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ny, bright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or absor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absor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hiny, bright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or absor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od absor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Wor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ey Word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ul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f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and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an object tells us how HOT i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in degrees Celsius - °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NOT the same as heat energy although the two quantities are relate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a beaker of water at 60 °C is hot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a bath of water at 40 °C BU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h contains more joules of 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and 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emperature of an object tells us how HOT it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d in degrees Celsius - °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NOT the same as heat energy although the two quantities are related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.g. a beaker of water at 60 °C is hotter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an a bath of water at 40 °C BUT the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th contains more joules of hea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and Coo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bject has become hotter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eans that it has gained heat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bject cools down, it means it h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ing and Cool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object has become hotter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means that it has gained heat ener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object cools down, it means it ha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s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and Cooling co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energy always move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HOT object                           COOLER objec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Cup of water at 20 °C in a room at 30°C - gains heat energy and heats up – its temperature 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p of water at 20 °C in a room at 10°C loses heat energy and cools down – its temperature will f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ing and Cooling con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energy always move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HOT object                           COOLER object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.g.Cup of water at 20 °C in a room at 30°C - gains heat energy and heats up – its temperature ri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up of water at 20 °C in a room at 10°C loses heat energy and cools down – its temperature will fall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Condu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Conve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Energy transfer 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Conduction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Convection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is transferred through a material by being passed from one particle to the 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at the warm end move faster and this then causes the next particles to move faster and so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way heat in an object travel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OT e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d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is transferred through a material by being passed from one particle to the nex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icles at the warm end move faster and this then causes the next particles to move faster and so 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is way heat in an object travel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HOT end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cold 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 co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by the particles hitting each other and so energy is transfer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happen in solids, liquids and gas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ens best in solids-particles very close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 does not occur very quickly in liquids or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 con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s by the particles hitting each other and so energy is transferr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happen in solids, liquids and gase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ppens best in solids-particles very close toget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 does not occur very quickly in liquids or g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 that conduct heat quickly are called condu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metals are good conductors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is a very good conductor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s for cooking are usually made with a copper or aluminium bottom and plastic hand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erials that conduct heat quickly are called condu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metals are good conductors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per is a very good conductor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ns for cooking are usually made with a copper or aluminium bottom and plastic hand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lators/poor condu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 that conduct heat slowly or poorly are called ins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, wood, plastic and rubber are poor conductors (good insulat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all liquids including water are poor conductors (good insulat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es, including air are poor conductors,e.g., wool feels warm because it traps a lot of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idge has insulation material round it to keep it cold – reduces amount of heat conducted to inside from the warmer 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ulators/poor condu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erials that conduct heat slowly or poorly are called insul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lass, wood, plastic and rubber are poor conductors (good insulator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arly all liquids including water are poor conductors (good insulator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ses, including air are poor conductors,e.g., wool feels warm because it traps a lot of a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fridge has insulation material round it to keep it cold – reduces amount of heat conducted to inside from the warmer ro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6B89-4568-4567-8C6D-51FA95CA0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6A28-66FF-48A0-A0FD-1A8414EA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4577-D5FE-46EB-9BFC-0487C887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86C3-4F3E-4C34-B8EE-9C158A32B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0CF7-76A9-4BE3-8C35-4524CEDD2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070B-53E7-444C-BD87-3CA63DB6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6911-286B-4FB4-AD97-97B6605C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BCB9-A966-406F-862E-FC92E195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9493-C38B-4170-9129-1F9BDDC8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91E4-2CFE-4751-845A-C2DF2642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859E-88CB-41F8-ACE0-777D0AAF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F95A-A37B-466D-B9D5-B0FEE49D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5109-BC0B-4B21-A129-31E04FA0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CBAD-2118-43DF-92D0-F170475C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C5FC-55D6-4043-934D-429C0EEB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0AE6-E384-4927-A08F-15BA0C47C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E831-241E-490A-9244-7D79932A2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C90D-8820-43DC-9284-D8631DDD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0B87-D3B6-4DE5-989F-C0BFD6AD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277F-7A9E-4DDA-8DE6-62B2695F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023A-7A56-4EC9-867C-378CBCA3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6882-F905-4813-80F0-0A84809B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B7F5-507A-4FA0-9BBF-F12A75B3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5FE0-A9A0-4C69-BEB6-261A0516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A886-D6C5-4366-A255-903F7BDF66A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219B-0EAF-4559-8DE0-E33286FA39E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 ENER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560" y="1904760"/>
            <a:ext cx="70866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is HEA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rm of energy and measured in JO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articles move about more and take up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re room if heated – this is why things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and if h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is also why substances change from: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olids         liquids         gases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n h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4419720" y="48769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6172200" y="48769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ve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kes place in material where particles can move around inside the material, i.e. liquid or g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heat is carried by the particles themselves moving               Convection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urr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ccur because an area with warm particles expands and becomes less dense than the cooler areas nearby. The warm area rises.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oler particles fall into the space left by the warm particles and convection current is set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6553080" y="4495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14"/>
          <p:cNvSpPr/>
          <p:nvPr/>
        </p:nvSpPr>
        <p:spPr>
          <a:xfrm>
            <a:off x="2438280" y="327672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vection Curr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256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ot liquids and gases expand and rise while the cooler liquid or gas fa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3429000" y="3429000"/>
            <a:ext cx="2286000" cy="2819520"/>
          </a:xfrm>
          <a:prstGeom prst="can">
            <a:avLst>
              <a:gd name="adj" fmla="val 25000"/>
            </a:avLst>
          </a:prstGeom>
          <a:solidFill>
            <a:srgbClr val="00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6553080" y="4495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6324480" y="4724280"/>
            <a:ext cx="2133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ir r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Freeform 10"/>
          <p:cNvSpPr/>
          <p:nvPr/>
        </p:nvSpPr>
        <p:spPr>
          <a:xfrm>
            <a:off x="5559480" y="4368960"/>
            <a:ext cx="3240" cy="1422360"/>
          </a:xfrm>
          <a:custGeom>
            <a:avLst/>
            <a:gdLst/>
            <a:ahLst/>
            <a:rect l="l" t="t" r="r" b="b"/>
            <a:pathLst>
              <a:path w="2" h="896">
                <a:moveTo>
                  <a:pt x="2" y="896"/>
                </a:moveTo>
                <a:lnTo>
                  <a:pt x="0" y="0"/>
                </a:lnTo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3809880" y="434340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3733920" y="4368960"/>
            <a:ext cx="0" cy="142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3885480" y="57913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3505320" y="2819520"/>
            <a:ext cx="205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 Goes acr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990720" y="4343400"/>
            <a:ext cx="1904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 Then d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1905120" y="6095880"/>
            <a:ext cx="205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 And acr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vection cont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sun can cause large convection currents  - WI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uring daytime the land warms up more than the sea.  The warm air rises over the land and cool air falls over the sea. So we feel a sea breez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ising convection currents can be uses by glider pilots to keep their planes in the air and by birds to stay alof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adi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ransfer of heat directly form the source to the object by a wave, travelling as ray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radiation is also known as 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objects that are hotter than their surroundings give out heat as infra-red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transfer by radiation does not need particles to occur and is the only way energy can be transferred across empty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2133720" y="3048120"/>
            <a:ext cx="4709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INFRA-RED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mitt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Hott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bjects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emi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give out)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fferent surfaces emit heat at different sp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ull black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rfaces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os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energy more quickly – it is a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ood radi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bright shiny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whi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rface is a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poor radi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rathon runners need to keep warm at the end of races, covering in shiny blankets reduces radiation and therefore heat lo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mitters of he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1600200" y="2209680"/>
            <a:ext cx="1600200" cy="213372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5765760" y="2209680"/>
            <a:ext cx="1473120" cy="2210040"/>
          </a:xfrm>
          <a:prstGeom prst="can">
            <a:avLst>
              <a:gd name="adj" fmla="val 2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838080" y="48006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right shiny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or radi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5029200" y="48769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5181480" y="48006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ood Radi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14"/>
          <p:cNvSpPr/>
          <p:nvPr/>
        </p:nvSpPr>
        <p:spPr>
          <a:xfrm>
            <a:off x="3429000" y="2819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16"/>
          <p:cNvSpPr/>
          <p:nvPr/>
        </p:nvSpPr>
        <p:spPr>
          <a:xfrm>
            <a:off x="3429000" y="3352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19"/>
          <p:cNvSpPr/>
          <p:nvPr/>
        </p:nvSpPr>
        <p:spPr>
          <a:xfrm>
            <a:off x="7391520" y="32004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AutoShape 20"/>
          <p:cNvSpPr/>
          <p:nvPr/>
        </p:nvSpPr>
        <p:spPr>
          <a:xfrm>
            <a:off x="7391520" y="35812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AutoShape 21"/>
          <p:cNvSpPr/>
          <p:nvPr/>
        </p:nvSpPr>
        <p:spPr>
          <a:xfrm>
            <a:off x="7391520" y="3962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22"/>
          <p:cNvSpPr/>
          <p:nvPr/>
        </p:nvSpPr>
        <p:spPr>
          <a:xfrm>
            <a:off x="7391520" y="2819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23"/>
          <p:cNvSpPr/>
          <p:nvPr/>
        </p:nvSpPr>
        <p:spPr>
          <a:xfrm>
            <a:off x="7391520" y="24382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AutoShape 24"/>
          <p:cNvSpPr/>
          <p:nvPr/>
        </p:nvSpPr>
        <p:spPr>
          <a:xfrm>
            <a:off x="1066680" y="281952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1066680" y="335268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26"/>
          <p:cNvSpPr/>
          <p:nvPr/>
        </p:nvSpPr>
        <p:spPr>
          <a:xfrm>
            <a:off x="5181480" y="243828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AutoShape 27"/>
          <p:cNvSpPr/>
          <p:nvPr/>
        </p:nvSpPr>
        <p:spPr>
          <a:xfrm>
            <a:off x="5181480" y="396252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28"/>
          <p:cNvSpPr/>
          <p:nvPr/>
        </p:nvSpPr>
        <p:spPr>
          <a:xfrm>
            <a:off x="5181480" y="281952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5181480" y="320040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AutoShape 30"/>
          <p:cNvSpPr/>
          <p:nvPr/>
        </p:nvSpPr>
        <p:spPr>
          <a:xfrm>
            <a:off x="5181480" y="358128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bsorb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09480" y="1523880"/>
            <a:ext cx="807732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oler objects absorb (take in)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bstances absorb heat at different sp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ull, black surfaces absorb heat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right, shiny surfaces absorb heat slow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hot countries, people wear bright white clothes and paint their houses white to reduce absorption of energy from the su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etrol storage tanks sprayed silver to reflect sun’s r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bsorb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3276720" y="1066680"/>
            <a:ext cx="2133360" cy="18288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447920" y="2819520"/>
            <a:ext cx="1295280" cy="243828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943600" y="2819520"/>
            <a:ext cx="1295280" cy="2438280"/>
          </a:xfrm>
          <a:prstGeom prst="can">
            <a:avLst>
              <a:gd name="adj" fmla="val 2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8"/>
          <p:cNvSpPr/>
          <p:nvPr/>
        </p:nvSpPr>
        <p:spPr>
          <a:xfrm>
            <a:off x="3048120" y="3352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AutoShape 9"/>
          <p:cNvSpPr/>
          <p:nvPr/>
        </p:nvSpPr>
        <p:spPr>
          <a:xfrm>
            <a:off x="838080" y="335268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AutoShape 10"/>
          <p:cNvSpPr/>
          <p:nvPr/>
        </p:nvSpPr>
        <p:spPr>
          <a:xfrm>
            <a:off x="838080" y="426708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AutoShape 11"/>
          <p:cNvSpPr/>
          <p:nvPr/>
        </p:nvSpPr>
        <p:spPr>
          <a:xfrm>
            <a:off x="5334120" y="44197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12"/>
          <p:cNvSpPr/>
          <p:nvPr/>
        </p:nvSpPr>
        <p:spPr>
          <a:xfrm>
            <a:off x="5334120" y="411480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AutoShape 13"/>
          <p:cNvSpPr/>
          <p:nvPr/>
        </p:nvSpPr>
        <p:spPr>
          <a:xfrm>
            <a:off x="5334120" y="37339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AutoShape 14"/>
          <p:cNvSpPr/>
          <p:nvPr/>
        </p:nvSpPr>
        <p:spPr>
          <a:xfrm>
            <a:off x="5334120" y="32767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AutoShape 15"/>
          <p:cNvSpPr/>
          <p:nvPr/>
        </p:nvSpPr>
        <p:spPr>
          <a:xfrm>
            <a:off x="5334120" y="480060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AutoShape 16"/>
          <p:cNvSpPr/>
          <p:nvPr/>
        </p:nvSpPr>
        <p:spPr>
          <a:xfrm>
            <a:off x="7391520" y="41148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AutoShape 17"/>
          <p:cNvSpPr/>
          <p:nvPr/>
        </p:nvSpPr>
        <p:spPr>
          <a:xfrm>
            <a:off x="7391520" y="37339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AutoShape 18"/>
          <p:cNvSpPr/>
          <p:nvPr/>
        </p:nvSpPr>
        <p:spPr>
          <a:xfrm>
            <a:off x="7391520" y="3352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AutoShape 19"/>
          <p:cNvSpPr/>
          <p:nvPr/>
        </p:nvSpPr>
        <p:spPr>
          <a:xfrm>
            <a:off x="3048120" y="43434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AutoShape 20"/>
          <p:cNvSpPr/>
          <p:nvPr/>
        </p:nvSpPr>
        <p:spPr>
          <a:xfrm>
            <a:off x="7391520" y="48769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AutoShape 21"/>
          <p:cNvSpPr/>
          <p:nvPr/>
        </p:nvSpPr>
        <p:spPr>
          <a:xfrm>
            <a:off x="7391520" y="4495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914400" y="54100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hiny, bright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or absor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5257800" y="57913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24"/>
          <p:cNvSpPr/>
          <p:nvPr/>
        </p:nvSpPr>
        <p:spPr>
          <a:xfrm>
            <a:off x="5334120" y="54100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ood absor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Key Words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Oval 13"/>
          <p:cNvSpPr/>
          <p:nvPr/>
        </p:nvSpPr>
        <p:spPr>
          <a:xfrm>
            <a:off x="2057400" y="2819520"/>
            <a:ext cx="1828800" cy="99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Oval 14"/>
          <p:cNvSpPr/>
          <p:nvPr/>
        </p:nvSpPr>
        <p:spPr>
          <a:xfrm>
            <a:off x="5181480" y="2438280"/>
            <a:ext cx="1828800" cy="99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Oval 15"/>
          <p:cNvSpPr/>
          <p:nvPr/>
        </p:nvSpPr>
        <p:spPr>
          <a:xfrm>
            <a:off x="4495680" y="3784680"/>
            <a:ext cx="2438640" cy="1320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2133720" y="3048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334120" y="2666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4724280" y="4267080"/>
            <a:ext cx="18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nv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990720" y="4572000"/>
            <a:ext cx="27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n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Oval 20"/>
          <p:cNvSpPr/>
          <p:nvPr/>
        </p:nvSpPr>
        <p:spPr>
          <a:xfrm>
            <a:off x="838080" y="4343400"/>
            <a:ext cx="266724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3657600" y="1447920"/>
            <a:ext cx="20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Oval 22"/>
          <p:cNvSpPr/>
          <p:nvPr/>
        </p:nvSpPr>
        <p:spPr>
          <a:xfrm>
            <a:off x="4191120" y="838080"/>
            <a:ext cx="1066680" cy="1752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609480" y="2209680"/>
            <a:ext cx="21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Insul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Oval 24"/>
          <p:cNvSpPr/>
          <p:nvPr/>
        </p:nvSpPr>
        <p:spPr>
          <a:xfrm>
            <a:off x="533520" y="1981080"/>
            <a:ext cx="22860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3200400" y="5562720"/>
            <a:ext cx="24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nd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Oval 26"/>
          <p:cNvSpPr/>
          <p:nvPr/>
        </p:nvSpPr>
        <p:spPr>
          <a:xfrm>
            <a:off x="3276720" y="5334120"/>
            <a:ext cx="2057400" cy="99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27"/>
          <p:cNvSpPr/>
          <p:nvPr/>
        </p:nvSpPr>
        <p:spPr>
          <a:xfrm>
            <a:off x="6324480" y="9144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emp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Oval 28"/>
          <p:cNvSpPr/>
          <p:nvPr/>
        </p:nvSpPr>
        <p:spPr>
          <a:xfrm>
            <a:off x="6172200" y="533520"/>
            <a:ext cx="2286000" cy="1218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29"/>
          <p:cNvSpPr/>
          <p:nvPr/>
        </p:nvSpPr>
        <p:spPr>
          <a:xfrm>
            <a:off x="609480" y="5791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Emi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30"/>
          <p:cNvSpPr/>
          <p:nvPr/>
        </p:nvSpPr>
        <p:spPr>
          <a:xfrm>
            <a:off x="6172200" y="5562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Absor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Oval 31"/>
          <p:cNvSpPr/>
          <p:nvPr/>
        </p:nvSpPr>
        <p:spPr>
          <a:xfrm>
            <a:off x="1066680" y="5638680"/>
            <a:ext cx="12956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Oval 32"/>
          <p:cNvSpPr/>
          <p:nvPr/>
        </p:nvSpPr>
        <p:spPr>
          <a:xfrm>
            <a:off x="6400800" y="5410080"/>
            <a:ext cx="1676520" cy="99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33"/>
          <p:cNvSpPr/>
          <p:nvPr/>
        </p:nvSpPr>
        <p:spPr>
          <a:xfrm>
            <a:off x="60948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rans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Oval 34"/>
          <p:cNvSpPr/>
          <p:nvPr/>
        </p:nvSpPr>
        <p:spPr>
          <a:xfrm>
            <a:off x="609480" y="2971800"/>
            <a:ext cx="1371600" cy="12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 and Temperat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8004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temperature of an object tells us how </a:t>
            </a:r>
            <a:r>
              <a:rPr b="1" lang="en-GB" sz="3200" spc="-1" strike="noStrike">
                <a:solidFill>
                  <a:srgbClr val="f61b0a"/>
                </a:solidFill>
                <a:latin typeface="Times New Roman"/>
              </a:rPr>
              <a:t>HO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t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easured in degrees Celsius -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is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he same as heat energy although the two quantities are related.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.g. a beaker of water at 60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C is hotter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n a bath of water at 40 °C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h contains more joules of heat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1000">
    <p:checke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ing and Cool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an object has become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hott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means that it has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gained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energ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an object </a:t>
            </a:r>
            <a:r>
              <a:rPr b="0" lang="en-GB" sz="3200" spc="-1" strike="noStrike">
                <a:solidFill>
                  <a:srgbClr val="00ccff"/>
                </a:solidFill>
                <a:latin typeface="Times New Roman"/>
              </a:rPr>
              <a:t>cools down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it means it has </a:t>
            </a:r>
            <a:br>
              <a:rPr sz="3200"/>
            </a:br>
            <a:r>
              <a:rPr b="0" lang="en-GB" sz="3200" spc="-1" strike="noStrike">
                <a:solidFill>
                  <a:srgbClr val="00ccff"/>
                </a:solidFill>
                <a:latin typeface="Times New Roman"/>
              </a:rPr>
              <a:t>los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ing and Cooling cont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eat energy always moves from: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HO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bject                           </a:t>
            </a:r>
            <a:r>
              <a:rPr b="0" lang="en-GB" sz="2800" spc="-1" strike="noStrike">
                <a:solidFill>
                  <a:srgbClr val="00ccff"/>
                </a:solidFill>
                <a:latin typeface="Times New Roman"/>
              </a:rPr>
              <a:t>COOLER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bject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.g.Cup of water at 20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C in a room at 30°C - gains heat energy and heats up – its temperature r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p of water at 20 °C in a room at 10°C loses heat energy and cools down – its temperature will f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3809880" y="2514600"/>
            <a:ext cx="1828800" cy="9144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0033"/>
              </a:gs>
              <a:gs pos="100000">
                <a:srgbClr val="0000ff"/>
              </a:gs>
            </a:gsLst>
            <a:lin ang="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 ENER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47560" y="2133360"/>
            <a:ext cx="56386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Energy transfer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Conduction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Convection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Rad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d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is transferred through a material by being passed from one particle to the nex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icles at the warm end move faster and this then causes the next particles to move faster and so 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this way heat in an object travels from: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HOT end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cold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3429000" y="5105520"/>
            <a:ext cx="1828800" cy="9144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0033"/>
              </a:gs>
              <a:gs pos="100000">
                <a:srgbClr val="0000ff"/>
              </a:gs>
            </a:gsLst>
            <a:lin ang="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1000">
    <p:checker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duction cont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ccurs by the particles hitting each other and so energy is transfer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happen in solids, liquids and gase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appens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best in solid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-particles very close toge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duction does not occur very quickly in liquids or g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1000">
    <p:checker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duc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terials that conduct heat quickly are called condu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metals are good conductors of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pper is a very good conductor of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ns for cooking are usually made with a copper or aluminium bottom and plastic hand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Insulators/poor conduc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terials that conduct heat slowly or poorly are called insu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lass, wood, plastic and rubber are poor conductors (good insula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early all liquids including water are poor conductors (good insula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ases, including air are poor conductors,e.g., wool feels warm because it traps a lot of 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fridge has insulation material round it to keep it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col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– reduces amount of heat conducted to inside from the warmer r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1T11:23:49Z</dcterms:created>
  <dc:creator>NINEuser</dc:creator>
  <dc:description/>
  <dc:language>en-US</dc:language>
  <cp:lastModifiedBy>RomaK</cp:lastModifiedBy>
  <dcterms:modified xsi:type="dcterms:W3CDTF">2015-09-03T12:29:26Z</dcterms:modified>
  <cp:revision>20</cp:revision>
  <dc:subject/>
  <dc:title>HEAT ENERGY</dc:title>
</cp:coreProperties>
</file>